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23.png" ContentType="image/png"/>
  <Override PartName="/ppt/media/image11.png" ContentType="image/png"/>
  <Override PartName="/ppt/media/image7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9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9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dt" idx="25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6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7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5FAF7-6558-4B4D-9FAB-EA1141C17A23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A8DDC-0AB6-4CDE-B367-93CE807C1168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B7AD6-C29D-4003-9EA0-044252D92033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01F65-C4AD-4ECE-B079-BDD61A2A0D85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6D244-0BD3-41B6-943B-353BDC4777F8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47BB6-2F34-49BD-BAFC-FC3C35962E04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03A3C-3BF7-4186-9BAE-792BDAC8DAED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AA445-D732-40ED-942B-BE3CDEBDFADE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BFA9B-672B-444F-B1E9-5AD65061C0AC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96E4A-4676-4511-B86B-E83AAAD7FA75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BAEC2-0131-4C1A-8F31-6451B8DE37D8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6427D-75C6-419C-9454-10993FFF9A91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14109-5B0F-48A9-8710-A640BE8FB542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D0269-BC77-4DE3-818C-BD01D6B06054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7DCB4-0992-46A7-ABC5-D2B0F28B4254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53E3C-1757-4145-8CDB-52EBF574F08E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17609-450A-4CC3-9B4A-F4AC15B91B09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29141-AD68-4F25-8AF4-7BFCF4F61FCF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442EC-057A-45C6-BA54-B95B4141C848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09CD4-96C8-4FBC-A0DE-711DEF177E2A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3CAF2-522A-460A-BC8A-16BD39CAFAA6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243D7-9E50-4819-B63A-639616EDA28C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1B58F-7AC9-4A7E-8BDC-2E6AB516E7AD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2A5D4-985D-4139-BE4A-D01AE7CA28EE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3D2A7-F61E-492E-B1C3-19D00DBE9B08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5E316-3D78-4681-9591-010E91DE650F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B236F-79DB-42E2-AD43-EA5FBD8DC822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8A952-1E57-44E0-A76B-E10768D133BC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F2BE3-D743-400B-8346-6DE388754566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46BF3-2B90-4E9A-AD41-44A6893C8D2C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03304-927B-4759-98EC-7E4BF5AFA3AD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40410-C136-4034-9C29-197D15442F98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1070E-218A-490A-B30E-F19A8A7B6614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3BC26-0F6E-4AAD-9D84-987BBF800852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7B433-5213-49FB-956E-C52BEA49D2B8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03606-BA72-4EB4-A8B6-06D84EC92D87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A6B9E-C58F-4C6A-AB98-3AFCF55BFACD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13706-5468-4A12-8A1F-AF660DD049E7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8DF90-67DA-499E-8E33-C6E915576AA4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27424-FF7B-4DC7-B4AD-DAF4BF5DF6A0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D263C-8846-448B-93BF-CA9A1DED76CC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CD7CA-E35E-4C2C-9240-A126B5F6AD0D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D1144-0953-40EB-BF8A-E3FF4E7F5FD0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918E1-1BBE-4CA1-8093-98C628ADD584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67C24-CA30-4980-AEBA-F0E5208CD937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80DC-8132-45A0-A954-C1E0CF60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BFE-9C82-42A5-B9BB-C200EFAD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750-5EFD-4D1E-AA07-CC37CC6B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F93-FBCA-4D39-999E-E6CE1145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D5DA-9F9F-49AD-A132-6A8FFC3A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5858-6185-4282-BA17-2C47702F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1F6A-912E-4176-8C25-9D284B24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DCA9-FC5C-4D39-8E01-DB18C40A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7527-3E9C-4242-8938-C3BA65B4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4D10-DB17-44D3-98AB-F7448E0B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45A9-B7CA-4913-8915-15EFBF33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0CA-6A00-4564-9681-9B66C379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E680-7B79-4BBF-ABF6-DF20C76A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82CA-5384-4381-9A0A-CBD1CE17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E0D2-0555-4F21-B5F4-6E906081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551F-D3AA-4B02-9BAA-8CBD7D7F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52A5-7229-4CB0-8C68-D1C68BA8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10A3E-D7EA-4CB9-B2F1-93F9B265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9233F-E4DC-47C5-AD58-9546D299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BD595-47C2-480B-89E5-31479610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A8254-78EA-448A-875D-A27E1ABB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A5325-F697-40F2-8DB5-85B2CF9D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D339-49E1-4B2D-B335-A1D2A27E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C1EBD-FC5F-4D7C-9FDB-74986103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5119A-0845-462B-BF9C-DBBBE8E4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999AD-22A8-4154-9E3D-A9FC91B7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E9FB1-9208-4253-8B7B-16C37E66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CB719-662A-48B3-850C-01E52D54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DDA1C-4B89-45E7-8DE3-1FDA43A5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9B88C-4EE1-4774-8DAC-E1530199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A2C116-9B19-4D10-B96B-333B072E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1EB91D-6C04-4CC9-BD05-7235F2DB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1322C2-2ABF-4281-9886-22311F97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106-4CB6-487F-9D35-19E0B7B6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897038-416A-468C-AD58-0CD4FA99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BAE81-0197-4CEC-9C77-C533F184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769048-067E-4082-947C-191F04B3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D0C22B-F811-4132-AA3B-36BEDAC0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AF99C-7982-419D-AA69-A0BF401E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6A36A1-EC0B-4067-83FE-FF5BDCFC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68B5BE-939C-4042-9A8D-CBD4F0D4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E0DD35-AE5C-469F-9B1D-DA2D1FA6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1F2307-C581-4AC6-AB1F-9305D8A9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6F4C1D-0366-4BF7-B080-C22CBA32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B21D-F27B-46A4-8104-103CDF0F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216978-23C3-45CA-8BB9-27C8F6F5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F4DEC7-B488-40BC-AA86-F6F83024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06D86F-8BEB-48D4-B7A5-6BAD8674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012A10-B22E-4008-9B3C-CC20C1D3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4BA230-A65C-491A-A0DF-5D5A4C18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B01249-12CE-409C-99E8-870AE9B7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80822-9BF2-43D2-B1EB-DA440BE3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A702C9-4097-4F05-AD83-EEE17FCF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BAB94-B2D7-4B20-B46E-547FD6F0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464CEE-2C34-4537-B344-CAC40C53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9AB-4A8C-4707-BD2F-E05257DA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AED2A-B243-4BA3-9F40-86AAC97F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72B7A-2196-4097-8DF0-024C6DE8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4B6F7-EE8A-44B5-890C-0CDD88C8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AF3D0-2BA1-4F2C-A2FC-EB63C167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1FC28-DDCE-43E7-8CF8-AB5012D3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AEEAD-0696-4BF4-BFEC-66E1A3EA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D567F-1356-472B-A4E5-A9C94A3E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67C1C-327A-43EE-8F54-F840517C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9A743-8CA2-40DC-8D11-58CDE680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F8A75-F9A8-4F31-8581-6C2A0437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1D87-B0BD-4328-BCC2-3426B187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0E7A4-53AF-40F1-B17E-17A94DB5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0D5FC-32F5-423E-B2A1-AAF7AC84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97067-54BF-4EFA-9DF8-9B86AF48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F7563F-B070-4DF2-AA39-5FFB0803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25FC09-1BE1-4B18-8B0D-03C40A56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469AB6-3214-4D24-8228-3D37ED64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C99BA8-AB3F-47E0-9CDF-F8ED959D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8BA25C-A50E-401E-B9B2-7B5E0548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C1BEF0-C791-457D-A328-35ADC8B3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434353-C232-48AF-A251-F3B421D9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60E-C130-474D-8937-BAC2D5B1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8B0A55-0CFB-438A-9E53-43944610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2D1835-D4D5-4996-804B-79CF79BE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990C66-71D4-4942-A7FE-8FFCC6D3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F1A812-EC50-4612-8407-5193B11F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610DA2-7575-46BA-A2CA-C53F05B9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938A8-4D38-4EE5-9721-18714519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09050-3C77-4A98-B2A9-4105C8C8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1B13C-7CDB-4329-9FA9-75037DD3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4A5DE-FEC8-4BED-90F9-8F511FE5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15548-2B3F-4072-A874-832F6D1F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CED-2C42-4C7D-97D4-4CC2FAB2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88128-E3E6-427E-8703-0A98D64A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A4F51-1BFD-4747-A6A5-C12B5A76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F2FCE-9BB8-4244-B014-9032BD25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16ECC-82C0-4773-AFA0-BD49A1FD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44607-1816-458D-B2BD-E69D11C2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0A431-2D50-49CF-B1A8-D98EF79F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6FA8A-84CC-4BFD-978C-2AB94F46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hteck 6"/>
          <p:cNvSpPr/>
          <p:nvPr/>
        </p:nvSpPr>
        <p:spPr>
          <a:xfrm>
            <a:off x="0" y="1360440"/>
            <a:ext cx="1008072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hteck 7"/>
          <p:cNvSpPr/>
          <p:nvPr/>
        </p:nvSpPr>
        <p:spPr>
          <a:xfrm>
            <a:off x="0" y="1411200"/>
            <a:ext cx="587520" cy="2523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hteck 8"/>
          <p:cNvSpPr/>
          <p:nvPr/>
        </p:nvSpPr>
        <p:spPr>
          <a:xfrm>
            <a:off x="650880" y="1411200"/>
            <a:ext cx="9429840" cy="25236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401480"/>
            <a:ext cx="587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42C83F-35A0-4801-BEF3-A4F727DECDBF}" type="slidenum">
              <a:rPr b="1" lang="de-DE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eck 9"/>
          <p:cNvSpPr/>
          <p:nvPr/>
        </p:nvSpPr>
        <p:spPr>
          <a:xfrm>
            <a:off x="0" y="6581880"/>
            <a:ext cx="1008072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hteck 10"/>
          <p:cNvSpPr/>
          <p:nvPr/>
        </p:nvSpPr>
        <p:spPr>
          <a:xfrm>
            <a:off x="-9360" y="6672240"/>
            <a:ext cx="2479680" cy="7873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hteck 11"/>
          <p:cNvSpPr/>
          <p:nvPr/>
        </p:nvSpPr>
        <p:spPr>
          <a:xfrm>
            <a:off x="2600280" y="6662880"/>
            <a:ext cx="7480440" cy="785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3880" y="6689520"/>
            <a:ext cx="2268360" cy="75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298600" y="260280"/>
            <a:ext cx="6469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819640" y="252360"/>
            <a:ext cx="924120" cy="419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76A43C-3EB2-4C17-AE81-B2E9070DE421}" type="slidenum">
              <a:rPr b="1" lang="de-DE" sz="15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eck 9"/>
          <p:cNvSpPr/>
          <p:nvPr/>
        </p:nvSpPr>
        <p:spPr>
          <a:xfrm>
            <a:off x="0" y="1679400"/>
            <a:ext cx="10080720" cy="12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hteck 10"/>
          <p:cNvSpPr/>
          <p:nvPr/>
        </p:nvSpPr>
        <p:spPr>
          <a:xfrm>
            <a:off x="0" y="1763640"/>
            <a:ext cx="1428840" cy="109224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hteck 11"/>
          <p:cNvSpPr/>
          <p:nvPr/>
        </p:nvSpPr>
        <p:spPr>
          <a:xfrm>
            <a:off x="1512720" y="1763640"/>
            <a:ext cx="8568000" cy="1092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-360" y="1931760"/>
            <a:ext cx="1428840" cy="77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E1395E-C720-4A03-8270-7650C6051E6F}" type="slidenum">
              <a:rPr b="1" lang="de-D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ck 6"/>
          <p:cNvSpPr/>
          <p:nvPr/>
        </p:nvSpPr>
        <p:spPr>
          <a:xfrm>
            <a:off x="0" y="1360440"/>
            <a:ext cx="1008072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hteck 7"/>
          <p:cNvSpPr/>
          <p:nvPr/>
        </p:nvSpPr>
        <p:spPr>
          <a:xfrm>
            <a:off x="0" y="1411200"/>
            <a:ext cx="587520" cy="2523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hteck 8"/>
          <p:cNvSpPr/>
          <p:nvPr/>
        </p:nvSpPr>
        <p:spPr>
          <a:xfrm>
            <a:off x="650880" y="1411200"/>
            <a:ext cx="9429840" cy="25236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401480"/>
            <a:ext cx="587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BA5EB4-75CB-4BF5-BB42-F17013818F49}" type="slidenum">
              <a:rPr b="1" lang="de-DE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eck 6"/>
          <p:cNvSpPr/>
          <p:nvPr/>
        </p:nvSpPr>
        <p:spPr>
          <a:xfrm>
            <a:off x="0" y="1360440"/>
            <a:ext cx="1008072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hteck 7"/>
          <p:cNvSpPr/>
          <p:nvPr/>
        </p:nvSpPr>
        <p:spPr>
          <a:xfrm>
            <a:off x="0" y="1411200"/>
            <a:ext cx="587520" cy="2523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hteck 8"/>
          <p:cNvSpPr/>
          <p:nvPr/>
        </p:nvSpPr>
        <p:spPr>
          <a:xfrm>
            <a:off x="650880" y="1411200"/>
            <a:ext cx="9429840" cy="25236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401480"/>
            <a:ext cx="587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75325A-2075-4AFD-9269-02EEFF70F581}" type="slidenum">
              <a:rPr b="1" lang="de-DE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888240"/>
            <a:ext cx="587520" cy="419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9084D3-8106-4699-88F1-607B709FCB83}" type="slidenum">
              <a:rPr b="1" lang="de-DE" sz="15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eck 9"/>
          <p:cNvSpPr/>
          <p:nvPr/>
        </p:nvSpPr>
        <p:spPr>
          <a:xfrm>
            <a:off x="-9360" y="5040360"/>
            <a:ext cx="1008036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hteck 10"/>
          <p:cNvSpPr/>
          <p:nvPr/>
        </p:nvSpPr>
        <p:spPr>
          <a:xfrm>
            <a:off x="-9360" y="5140440"/>
            <a:ext cx="1612800" cy="785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hteck 11"/>
          <p:cNvSpPr/>
          <p:nvPr/>
        </p:nvSpPr>
        <p:spPr>
          <a:xfrm>
            <a:off x="1703520" y="5130720"/>
            <a:ext cx="8377200" cy="78588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hteck 12"/>
          <p:cNvSpPr/>
          <p:nvPr/>
        </p:nvSpPr>
        <p:spPr>
          <a:xfrm>
            <a:off x="1595520" y="0"/>
            <a:ext cx="110880" cy="756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88788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5144760"/>
            <a:ext cx="1595520" cy="73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3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C36765-FD53-456D-8132-497140EF0881}" type="slidenum">
              <a:rPr b="1" lang="de-DE" sz="3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763280" y="6887880"/>
            <a:ext cx="504036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eck 9"/>
          <p:cNvSpPr/>
          <p:nvPr/>
        </p:nvSpPr>
        <p:spPr>
          <a:xfrm>
            <a:off x="6721560" y="0"/>
            <a:ext cx="35244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hteck 10"/>
          <p:cNvSpPr/>
          <p:nvPr/>
        </p:nvSpPr>
        <p:spPr>
          <a:xfrm>
            <a:off x="6770520" y="671400"/>
            <a:ext cx="252720" cy="6888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hteck 11"/>
          <p:cNvSpPr/>
          <p:nvPr/>
        </p:nvSpPr>
        <p:spPr>
          <a:xfrm>
            <a:off x="6770520" y="0"/>
            <a:ext cx="252720" cy="587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224840" y="6887880"/>
            <a:ext cx="2435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04720" y="6887880"/>
            <a:ext cx="614376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6603840" y="158400"/>
            <a:ext cx="587520" cy="27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837A66-E35C-4279-8EE5-A7B0A4035CA6}" type="slidenum">
              <a:rPr b="1" lang="de-DE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 flipV="1">
            <a:off x="503280" y="207720"/>
            <a:ext cx="907092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6283440" y="6851520"/>
            <a:ext cx="34718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Von Thomas Lieb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0" y="-6480"/>
            <a:ext cx="10080720" cy="65660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2603520" y="6668640"/>
            <a:ext cx="7392960" cy="75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w Cen MT"/>
              </a:rPr>
              <a:t>Biogasanlagen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2560" y="1763280"/>
            <a:ext cx="898200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3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Vorgrub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ie Vorgrube dient als Zwischenlager für Gülle und Kosubstrat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Zusätzlich kann man darin auch Substrate zerkleinern, vermischen und verdünne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6119640" y="4500720"/>
            <a:ext cx="3240360" cy="28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82560" y="1763640"/>
            <a:ext cx="8982000" cy="551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4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Feststoffdosier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Er wird mit kosubstraten befüllt und fördert diese dann, je nach Einstellung eine bestimmte Menge, in den Ferment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1979640" y="3780000"/>
            <a:ext cx="684036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2560" y="1763280"/>
            <a:ext cx="898200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5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Ferment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In seinem Inneren bauen viele millionen Bakterien die organischen Bestandteile der Eingangstoffe ab und setzten Methan frei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ie Prozesstemperatur wird meist auf etwa 33-40 Grad Celsius gehalte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5219640" y="4500720"/>
            <a:ext cx="4500720" cy="2879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900000" y="4680000"/>
            <a:ext cx="395928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1931760"/>
            <a:ext cx="254016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Substratverweildauer im Fermenter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5" name="Inhaltsplatzhalter 5" descr=""/>
          <p:cNvPicPr/>
          <p:nvPr/>
        </p:nvPicPr>
        <p:blipFill>
          <a:blip r:embed="rId1"/>
          <a:stretch/>
        </p:blipFill>
        <p:spPr>
          <a:xfrm>
            <a:off x="2603520" y="2208240"/>
            <a:ext cx="7056360" cy="4595760"/>
          </a:xfrm>
          <a:prstGeom prst="rect">
            <a:avLst/>
          </a:prstGeom>
          <a:ln w="0">
            <a:noFill/>
          </a:ln>
        </p:spPr>
      </p:pic>
      <p:sp>
        <p:nvSpPr>
          <p:cNvPr id="396" name="Textfeld 8"/>
          <p:cNvSpPr/>
          <p:nvPr/>
        </p:nvSpPr>
        <p:spPr>
          <a:xfrm>
            <a:off x="7831440" y="6708600"/>
            <a:ext cx="880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dd8047"/>
                </a:solidFill>
                <a:latin typeface="Arial"/>
              </a:rPr>
              <a:t>Zeit /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feld 10"/>
          <p:cNvSpPr/>
          <p:nvPr/>
        </p:nvSpPr>
        <p:spPr>
          <a:xfrm>
            <a:off x="2619000" y="1779480"/>
            <a:ext cx="1233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dd8047"/>
                </a:solidFill>
                <a:latin typeface="Arial"/>
              </a:rPr>
              <a:t>Abbau /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Trocken oder Nassfermentatio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1763280"/>
            <a:ext cx="966456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Trockenfermentatio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Hier können Substrate mit weniger als 85% Wassergehalt  zu Biogas verwertet werde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ie Verwendung von Gülle ist nicht mehr zwingend erforderlich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Hier kommen Substrate wie Mais und Grassilage, Getreidepflanzen, Kartoffeln oder Festmist zum Einsatz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Trocken oder Nassfermentatio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Nassfermentatio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Es wird unterschieden zwisch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w Cen MT"/>
              </a:rPr>
              <a:t>Speicheranlagen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oder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Tw Cen MT"/>
              </a:rPr>
              <a:t>Durchflussanlag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Trocken oder Nassfermentatio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00800" rIns="100800" tIns="50400" bIns="50400" anchor="t">
            <a:normAutofit/>
          </a:bodyPr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000" spc="-1" strike="noStrike" u="sng">
                <a:solidFill>
                  <a:srgbClr val="000000"/>
                </a:solidFill>
                <a:uFillTx/>
                <a:latin typeface="Tw Cen MT"/>
              </a:rPr>
              <a:t>Speicheranlagen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Günstig in der Herstellung und einfach im Betrieb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Keine kontinuierliche Produktion von Bioga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a bei einer Speicheranlage der Fermenter gleichzeitig das Gärrückstandslager bildet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er Fermenter muss geöffnet werden, wenn das Substrat vollständig ausgefault is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Erst dann ist eine neue Inbetriebnahme möglich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404" name="AutoShape 3"/>
          <p:cNvCxnSpPr>
            <a:stCxn id="403" idx="0"/>
            <a:endCxn id="403" idx="0"/>
          </p:cNvCxnSpPr>
          <p:nvPr/>
        </p:nvCxnSpPr>
        <p:spPr>
          <a:xfrm flipH="1" flipV="1" rot="5400000">
            <a:off x="5486760" y="1762920"/>
            <a:ext cx="2520" cy="2520"/>
          </a:xfrm>
          <a:prstGeom prst="bentConnector3">
            <a:avLst>
              <a:gd name="adj1" fmla="val 14383333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405" name="Nach rechts gekrümmter Pfeil 20"/>
          <p:cNvSpPr/>
          <p:nvPr/>
        </p:nvSpPr>
        <p:spPr>
          <a:xfrm>
            <a:off x="39600" y="2994120"/>
            <a:ext cx="714600" cy="928440"/>
          </a:xfrm>
          <a:custGeom>
            <a:avLst/>
            <a:gdLst>
              <a:gd name="textAreaLeft" fmla="*/ 95760 w 714600"/>
              <a:gd name="textAreaRight" fmla="*/ 618840 w 714600"/>
              <a:gd name="textAreaTop" fmla="*/ 164880 h 928440"/>
              <a:gd name="textAreaBottom" fmla="*/ 673920 h 92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85" stAng="-5400000" swAng="-5400000"/>
                <a:lnTo>
                  <a:pt x="0" y="11839"/>
                </a:lnTo>
                <a:arcTo wR="21600" hR="7685" stAng="10800000" swAng="-3241763"/>
                <a:lnTo>
                  <a:pt x="16200" y="21356"/>
                </a:lnTo>
                <a:lnTo>
                  <a:pt x="21600" y="17446"/>
                </a:lnTo>
                <a:lnTo>
                  <a:pt x="16200" y="13048"/>
                </a:lnTo>
                <a:lnTo>
                  <a:pt x="16200" y="15125"/>
                </a:lnTo>
                <a:arcTo wR="21600" hR="7685" stAng="7558237" swAng="2899554"/>
                <a:lnTo>
                  <a:pt x="804" y="9762"/>
                </a:lnTo>
                <a:arcTo wR="21600" hR="7685" stAng="-10457791" swAng="5057791"/>
                <a:close/>
              </a:path>
              <a:path fill="darkenLess" w="21600" h="21600">
                <a:moveTo>
                  <a:pt x="21600" y="0"/>
                </a:moveTo>
                <a:arcTo wR="21600" hR="7685" stAng="-5400000" swAng="-5400000"/>
                <a:lnTo>
                  <a:pt x="0" y="7685"/>
                </a:lnTo>
                <a:arcTo wR="21600" hR="7685" stAng="10800000" swAng="-342209"/>
                <a:lnTo>
                  <a:pt x="804" y="9762"/>
                </a:lnTo>
                <a:arcTo wR="21600" hR="7685" stAng="-10457791" swAng="5057791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Nach rechts gekrümmter Pfeil 22"/>
          <p:cNvSpPr/>
          <p:nvPr/>
        </p:nvSpPr>
        <p:spPr>
          <a:xfrm>
            <a:off x="39600" y="4137120"/>
            <a:ext cx="714600" cy="1143000"/>
          </a:xfrm>
          <a:custGeom>
            <a:avLst/>
            <a:gdLst>
              <a:gd name="textAreaLeft" fmla="*/ 95760 w 714600"/>
              <a:gd name="textAreaRight" fmla="*/ 618840 w 714600"/>
              <a:gd name="textAreaTop" fmla="*/ 218520 h 1143000"/>
              <a:gd name="textAreaBottom" fmla="*/ 83520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69" stAng="-5400000" swAng="-5400000"/>
                <a:lnTo>
                  <a:pt x="0" y="11645"/>
                </a:lnTo>
                <a:arcTo wR="21600" hR="8269" stAng="10800000" swAng="-3360022"/>
                <a:lnTo>
                  <a:pt x="16200" y="21337"/>
                </a:lnTo>
                <a:lnTo>
                  <a:pt x="21600" y="18225"/>
                </a:lnTo>
                <a:lnTo>
                  <a:pt x="16200" y="14587"/>
                </a:lnTo>
                <a:lnTo>
                  <a:pt x="16200" y="16274"/>
                </a:lnTo>
                <a:arcTo wR="21600" hR="8269" stAng="7439978" swAng="3086170"/>
                <a:lnTo>
                  <a:pt x="455" y="9957"/>
                </a:lnTo>
                <a:arcTo wR="21600" hR="8269" stAng="-10526148" swAng="5126148"/>
                <a:close/>
              </a:path>
              <a:path fill="darkenLess" w="21600" h="21600">
                <a:moveTo>
                  <a:pt x="21600" y="0"/>
                </a:moveTo>
                <a:arcTo wR="21600" hR="8269" stAng="-5400000" swAng="-5400000"/>
                <a:lnTo>
                  <a:pt x="0" y="8269"/>
                </a:lnTo>
                <a:arcTo wR="21600" hR="8269" stAng="10800000" swAng="-273852"/>
                <a:lnTo>
                  <a:pt x="455" y="9957"/>
                </a:lnTo>
                <a:arcTo wR="21600" hR="8269" stAng="-10526148" swAng="5126148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Nach rechts gekrümmter Pfeil 24"/>
          <p:cNvSpPr/>
          <p:nvPr/>
        </p:nvSpPr>
        <p:spPr>
          <a:xfrm>
            <a:off x="39600" y="5351400"/>
            <a:ext cx="714600" cy="1214640"/>
          </a:xfrm>
          <a:custGeom>
            <a:avLst/>
            <a:gdLst>
              <a:gd name="textAreaLeft" fmla="*/ 95760 w 714600"/>
              <a:gd name="textAreaRight" fmla="*/ 618840 w 714600"/>
              <a:gd name="textAreaTop" fmla="*/ 236520 h 1214640"/>
              <a:gd name="textAreaBottom" fmla="*/ 88884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18" stAng="-5400000" swAng="-5400000"/>
                <a:lnTo>
                  <a:pt x="0" y="11595"/>
                </a:lnTo>
                <a:arcTo wR="21600" hR="8418" stAng="10800000" swAng="-3388389"/>
                <a:lnTo>
                  <a:pt x="16200" y="21333"/>
                </a:lnTo>
                <a:lnTo>
                  <a:pt x="21600" y="18424"/>
                </a:lnTo>
                <a:lnTo>
                  <a:pt x="16200" y="14980"/>
                </a:lnTo>
                <a:lnTo>
                  <a:pt x="16200" y="16568"/>
                </a:lnTo>
                <a:arcTo wR="21600" hR="8418" stAng="7411611" swAng="3131425"/>
                <a:lnTo>
                  <a:pt x="388" y="10006"/>
                </a:lnTo>
                <a:arcTo wR="21600" hR="8418" stAng="-10543036" swAng="5143036"/>
                <a:close/>
              </a:path>
              <a:path fill="darkenLess" w="21600" h="21600">
                <a:moveTo>
                  <a:pt x="21600" y="0"/>
                </a:moveTo>
                <a:arcTo wR="21600" hR="8418" stAng="-5400000" swAng="-5400000"/>
                <a:lnTo>
                  <a:pt x="0" y="8418"/>
                </a:lnTo>
                <a:arcTo wR="21600" hR="8418" stAng="10800000" swAng="-256964"/>
                <a:lnTo>
                  <a:pt x="388" y="10006"/>
                </a:lnTo>
                <a:arcTo wR="21600" hR="8418" stAng="-10543036" swAng="5143036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Trocken oder Nassfermentatio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Durchflussanlag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Sie besitzt mehrere Stationen, durch die das Substrat automatisch fließ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Kontinuierliche Produktion von Bioga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Da das ausgefaulte Substrat in ein Gärrückstandslager gepumpt wird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Nach rechts gekrümmter Pfeil 5"/>
          <p:cNvSpPr/>
          <p:nvPr/>
        </p:nvSpPr>
        <p:spPr>
          <a:xfrm>
            <a:off x="254160" y="2922480"/>
            <a:ext cx="500040" cy="1143000"/>
          </a:xfrm>
          <a:custGeom>
            <a:avLst/>
            <a:gdLst>
              <a:gd name="textAreaLeft" fmla="*/ 66960 w 500040"/>
              <a:gd name="textAreaRight" fmla="*/ 433080 w 500040"/>
              <a:gd name="textAreaTop" fmla="*/ 238680 h 1143000"/>
              <a:gd name="textAreaBottom" fmla="*/ 8416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28" stAng="-5400000" swAng="-5400000"/>
                <a:lnTo>
                  <a:pt x="0" y="11391"/>
                </a:lnTo>
                <a:arcTo wR="21600" hR="9028" stAng="10800000" swAng="-3497645"/>
                <a:lnTo>
                  <a:pt x="16200" y="21313"/>
                </a:lnTo>
                <a:lnTo>
                  <a:pt x="21600" y="19238"/>
                </a:lnTo>
                <a:lnTo>
                  <a:pt x="16200" y="16588"/>
                </a:lnTo>
                <a:lnTo>
                  <a:pt x="16200" y="17769"/>
                </a:lnTo>
                <a:arcTo wR="21600" hR="9028" stAng="7302355" swAng="3308164"/>
                <a:lnTo>
                  <a:pt x="186" y="10210"/>
                </a:lnTo>
                <a:arcTo wR="21600" hR="9028" stAng="-10610519" swAng="5210519"/>
                <a:close/>
              </a:path>
              <a:path fill="darkenLess" w="21600" h="21600">
                <a:moveTo>
                  <a:pt x="21600" y="0"/>
                </a:moveTo>
                <a:arcTo wR="21600" hR="9028" stAng="-5400000" swAng="-5400000"/>
                <a:lnTo>
                  <a:pt x="0" y="9028"/>
                </a:lnTo>
                <a:arcTo wR="21600" hR="9028" stAng="10800000" swAng="-189481"/>
                <a:lnTo>
                  <a:pt x="186" y="10210"/>
                </a:lnTo>
                <a:arcTo wR="21600" hR="9028" stAng="-10610519" swAng="5210519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Nach rechts gekrümmter Pfeil 7"/>
          <p:cNvSpPr/>
          <p:nvPr/>
        </p:nvSpPr>
        <p:spPr>
          <a:xfrm>
            <a:off x="254160" y="4280040"/>
            <a:ext cx="500040" cy="128556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560"/>
              <a:gd name="textAreaBottom" fmla="*/ 94860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6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Gärrückstandslag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Hier werden die Reste der Gärung gelagert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Sie werden von hier aus als Dünger auf die Felder gebracht, da sie noch wertvolle Stoffe enthalte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Chemische Reaktionen im Fermenter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1611360" y="2208240"/>
            <a:ext cx="58291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Einsatz von Biogasanlag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0200" indent="-3240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Vorkomme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Landwirtschaf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Ernährungs-und Agrar-Industri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Kommunalen Entsorgung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Biogas Zusammensetz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Das entstandene Biogas besteht aus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50-65 %  energiereichem Methan ( CH</a:t>
            </a:r>
            <a:r>
              <a:rPr b="0" lang="de-DE" sz="2600" spc="-1" strike="noStrike" baseline="-33000">
                <a:solidFill>
                  <a:srgbClr val="000000"/>
                </a:solidFill>
                <a:latin typeface="Tw Cen MT"/>
              </a:rPr>
              <a:t>4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35-50 %  Kohlendioxid (CO</a:t>
            </a:r>
            <a:r>
              <a:rPr b="0" lang="de-DE" sz="2600" spc="-1" strike="noStrike" baseline="-33000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&lt;1 %  Schwefelwasserstoff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Spurengasen ( Wasserdampf, Stickstoff, Sauerstoff 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Biogas Zusammensetz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100800" rIns="100800" tIns="2304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Biogas enthält </a:t>
            </a: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Schwefelwasserstoff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        10-125 mg/m³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                   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hohe Toxität / Korrosions bilden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Entschwefelung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Tw Cen MT"/>
              <a:buAutoNum type="arabicParenR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Biologische Entschwefel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2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Chemische Entschwefel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feil nach rechts 5"/>
          <p:cNvSpPr/>
          <p:nvPr/>
        </p:nvSpPr>
        <p:spPr>
          <a:xfrm>
            <a:off x="5826240" y="1851120"/>
            <a:ext cx="571320" cy="28548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dd80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feil nach unten 6"/>
          <p:cNvSpPr/>
          <p:nvPr/>
        </p:nvSpPr>
        <p:spPr>
          <a:xfrm>
            <a:off x="4826160" y="2279520"/>
            <a:ext cx="285480" cy="57168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dd804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(Vor) Entschwefelungsverfahr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-360" y="1931760"/>
            <a:ext cx="243684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ffff"/>
                </a:solidFill>
                <a:uFillTx/>
                <a:latin typeface="Tw Cen MT"/>
              </a:rPr>
              <a:t>Biologische Entschwefelu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Effektive mikrobiologische Entschwefelung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4" name="Inhaltsplatzhalter 7" descr="Prechtlabb.5.jpg"/>
          <p:cNvPicPr/>
          <p:nvPr/>
        </p:nvPicPr>
        <p:blipFill>
          <a:blip r:embed="rId1"/>
          <a:stretch/>
        </p:blipFill>
        <p:spPr>
          <a:xfrm>
            <a:off x="3306600" y="1932120"/>
            <a:ext cx="5650200" cy="48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(Vor) Entschwefelungsverfahr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 u="sng">
                <a:solidFill>
                  <a:srgbClr val="000000"/>
                </a:solidFill>
                <a:uFillTx/>
                <a:latin typeface="Tw Cen MT"/>
              </a:rPr>
              <a:t>Chemische Entschwefel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Basiert auf der Zugabe von Stoffen in den Fermenter, die den Schwefel binde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Hierbei wird vor allem Eisenoxid verwende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(Haupt) Entschwefelungsverfahr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74640" y="182376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Schwefelwasserstoffentfernung mit Aktivkohl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(Feinentschwefelung)                              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1440000" y="3780000"/>
            <a:ext cx="6840360" cy="3240000"/>
          </a:xfrm>
          <a:prstGeom prst="rect">
            <a:avLst/>
          </a:prstGeom>
          <a:ln w="0">
            <a:noFill/>
          </a:ln>
        </p:spPr>
      </p:pic>
      <p:sp>
        <p:nvSpPr>
          <p:cNvPr id="430" name="Pfeil nach unten 5"/>
          <p:cNvSpPr/>
          <p:nvPr/>
        </p:nvSpPr>
        <p:spPr>
          <a:xfrm>
            <a:off x="3540240" y="2422440"/>
            <a:ext cx="221436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bfd3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(Haupt) Entschwefelungsverfahr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900000" y="2160720"/>
            <a:ext cx="77691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Gastrockn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82560" y="1850760"/>
            <a:ext cx="898848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Wird unterteilt in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Adsorptive Gastrocknungsverfahr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Kondensationsverfahren           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Gastrockn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Adsorptive Gastrocknungsverfahre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Wasserdampf lagert sich an bestimmten Stoffen ab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(z.B. an Kieselgelen oder Aluminiumoxide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In Form von Granulat in einem Festbettadsorber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feil nach unten 5"/>
          <p:cNvSpPr/>
          <p:nvPr/>
        </p:nvSpPr>
        <p:spPr>
          <a:xfrm>
            <a:off x="3611520" y="4137120"/>
            <a:ext cx="8571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Gastrockn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Kondensationsverfahre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Biogas wird gekühlt, wodurch das darin enthaltene Wasser auskondensier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Das Wasser wird dem Prozess entnommen und abgeführ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2440" indent="-514440">
              <a:spcBef>
                <a:spcPts val="774"/>
              </a:spcBef>
              <a:buClr>
                <a:srgbClr val="dd8047"/>
              </a:buClr>
              <a:buFont typeface="Tw Cen MT"/>
              <a:buAutoNum type="arabicPeriod" startAt="7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Folienspeich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- Gasspeicherung bei    &lt;0,1 bar Druck 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Anforderungen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Müssen gasdicht, druckfest, UV,-temperatur-und Witterungsbeständig sei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Anforderungen an Folien aus Kunststoffen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Reißfest :        min. 500N/ 5 cm² od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Zugfestigkeit : min. 250N/ 5 cm²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Temperaturbeständig von -30 bis +50°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Einsatz von Biogasanlag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1768320"/>
            <a:ext cx="95742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0200" indent="-3240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Vorkomme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Landwirtschaf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Ernährungs-und Agrar-Industri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Kommunalen Entsorgung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Zi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Aus Vergärung von organischen Stoffen </a:t>
            </a:r>
            <a:r>
              <a:rPr b="1" i="1" lang="de-DE" sz="3200" spc="-1" strike="noStrike" u="sng">
                <a:solidFill>
                  <a:srgbClr val="c00000"/>
                </a:solidFill>
                <a:uFillTx/>
                <a:latin typeface="Tw Cen MT"/>
              </a:rPr>
              <a:t>Energie</a:t>
            </a: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 in Form von Strom und Wärme zu gewinne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7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Folienspeich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1440000" y="2519280"/>
            <a:ext cx="7380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7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Folienspeicher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im Ferment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1039680" y="2779560"/>
            <a:ext cx="8115480" cy="38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8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Blockheizkraftwerk 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(BHKW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1"/>
          <a:stretch/>
        </p:blipFill>
        <p:spPr>
          <a:xfrm>
            <a:off x="2176560" y="2340000"/>
            <a:ext cx="5924520" cy="48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BHKW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Optimale Energieausbeute nur bei genügender        Sauerstoffzugab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Ansonsten keine vollständige Methanverbrennu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Sauerstoff   +  Methan        Kohlenstoffdioxid+Wass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      +   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4                                      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O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+  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453" name="AutoShape 3"/>
          <p:cNvCxnSpPr>
            <a:stCxn id="452" idx="3"/>
            <a:endCxn id="452" idx="3"/>
          </p:cNvCxnSpPr>
          <p:nvPr/>
        </p:nvCxnSpPr>
        <p:spPr>
          <a:xfrm>
            <a:off x="9575280" y="4218120"/>
            <a:ext cx="39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454" name="AutoShape 4"/>
          <p:cNvCxnSpPr>
            <a:stCxn id="452" idx="3"/>
            <a:endCxn id="452" idx="3"/>
          </p:cNvCxnSpPr>
          <p:nvPr/>
        </p:nvCxnSpPr>
        <p:spPr>
          <a:xfrm>
            <a:off x="9575280" y="4218120"/>
            <a:ext cx="39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455" name="Pfeil nach rechts 10"/>
          <p:cNvSpPr/>
          <p:nvPr/>
        </p:nvSpPr>
        <p:spPr>
          <a:xfrm>
            <a:off x="4111560" y="4780080"/>
            <a:ext cx="42876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feil nach rechts 12"/>
          <p:cNvSpPr/>
          <p:nvPr/>
        </p:nvSpPr>
        <p:spPr>
          <a:xfrm>
            <a:off x="4111560" y="5208480"/>
            <a:ext cx="42876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Nach rechts gekrümmter Pfeil 8"/>
          <p:cNvSpPr/>
          <p:nvPr/>
        </p:nvSpPr>
        <p:spPr>
          <a:xfrm>
            <a:off x="611280" y="2851200"/>
            <a:ext cx="428400" cy="1143000"/>
          </a:xfrm>
          <a:custGeom>
            <a:avLst/>
            <a:gdLst>
              <a:gd name="textAreaLeft" fmla="*/ 57240 w 428400"/>
              <a:gd name="textAreaRight" fmla="*/ 371160 w 428400"/>
              <a:gd name="textAreaTop" fmla="*/ 245520 h 1143000"/>
              <a:gd name="textAreaBottom" fmla="*/ 8438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81" stAng="-5400000" swAng="-5400000"/>
                <a:lnTo>
                  <a:pt x="0" y="11307"/>
                </a:lnTo>
                <a:arcTo wR="21600" hR="9281" stAng="10800000" swAng="-3539862"/>
                <a:lnTo>
                  <a:pt x="16200" y="21305"/>
                </a:lnTo>
                <a:lnTo>
                  <a:pt x="21600" y="19575"/>
                </a:lnTo>
                <a:lnTo>
                  <a:pt x="16200" y="17255"/>
                </a:lnTo>
                <a:lnTo>
                  <a:pt x="16200" y="18267"/>
                </a:lnTo>
                <a:arcTo wR="21600" hR="9281" stAng="7260138" swAng="3377789"/>
                <a:lnTo>
                  <a:pt x="129" y="10294"/>
                </a:lnTo>
                <a:arcTo wR="21600" hR="9281" stAng="-10637927" swAng="5237927"/>
                <a:close/>
              </a:path>
              <a:path fill="darkenLess" w="21600" h="21600">
                <a:moveTo>
                  <a:pt x="21600" y="0"/>
                </a:moveTo>
                <a:arcTo wR="21600" hR="9281" stAng="-5400000" swAng="-5400000"/>
                <a:lnTo>
                  <a:pt x="0" y="9281"/>
                </a:lnTo>
                <a:arcTo wR="21600" hR="9281" stAng="10800000" swAng="-162073"/>
                <a:lnTo>
                  <a:pt x="129" y="10294"/>
                </a:lnTo>
                <a:arcTo wR="21600" hR="9281" stAng="-10637927" swAng="5237927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BHKW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Bei ungenügender Sauerstoffzugabe entstehen unerwünschte Nebenprodukte wie z.B Kohlenstoffmonoxid (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O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)  oder                                                     Kohlenstoff (Ruß)  (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Methan + Sauerstoff          Kohlenstoffmonoxid + Wass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+     3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O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         +   4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w Cen MT"/>
              </a:rPr>
              <a:t>od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Methan + Sauerstoff           Kohlenstoff + Wass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4   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+   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                                    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    +  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r>
              <a:rPr b="0" lang="de-DE" sz="2400" spc="-1" strike="noStrike" baseline="-33000">
                <a:solidFill>
                  <a:srgbClr val="c00000"/>
                </a:solidFill>
                <a:latin typeface="Tw Cen MT"/>
              </a:rPr>
              <a:t> 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feil nach rechts 7"/>
          <p:cNvSpPr/>
          <p:nvPr/>
        </p:nvSpPr>
        <p:spPr>
          <a:xfrm>
            <a:off x="3468600" y="4208400"/>
            <a:ext cx="57168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feil nach rechts 10"/>
          <p:cNvSpPr/>
          <p:nvPr/>
        </p:nvSpPr>
        <p:spPr>
          <a:xfrm>
            <a:off x="3468600" y="4637160"/>
            <a:ext cx="57168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feil nach rechts 11"/>
          <p:cNvSpPr/>
          <p:nvPr/>
        </p:nvSpPr>
        <p:spPr>
          <a:xfrm>
            <a:off x="3468600" y="5637240"/>
            <a:ext cx="57168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feil nach rechts 12"/>
          <p:cNvSpPr/>
          <p:nvPr/>
        </p:nvSpPr>
        <p:spPr>
          <a:xfrm>
            <a:off x="3468600" y="6137280"/>
            <a:ext cx="57168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sberechn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w Cen MT"/>
              </a:rPr>
              <a:t>Eine Biogasanlage benötigt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Anbaufläche (ca. 0,3-1,0 ha pro kW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Kapital (3000 -5000 € pro kW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Arbeitskraft (ca. 1-3 Std pro Tag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bebaubare Hoffläche (ca. 0,5 -1 ha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sberechn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Die Wirtschaftlichkeit einer Biogasanlage wird   insbesondere bestimmt von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EEG Gesetz für den Vorrang Erneuerbarer Energien</a:t>
            </a:r>
            <a:r>
              <a:rPr b="0" lang="de-DE" sz="2000" spc="-1" strike="noStrike">
                <a:solidFill>
                  <a:srgbClr val="000000"/>
                </a:solidFill>
                <a:latin typeface="Tw Cen MT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Investitionskosten, Anlagengröß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Zuschüsse, Zinssätze, Besteueru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Anlagenleistu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Wärmenutzu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Kosten für Biomasse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Vorteil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Nutzung von erneuerbaren Energi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CO</a:t>
            </a:r>
            <a:r>
              <a:rPr b="0" lang="de-DE" sz="2600" spc="-1" strike="noStrike" baseline="-33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neutrale Energieerzeug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Einsatz des Methans als Treibstof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Vorteil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Nutzung von erneuerbaren Energi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CO</a:t>
            </a:r>
            <a:r>
              <a:rPr b="0" lang="de-DE" sz="2600" spc="-1" strike="noStrike" baseline="-33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neutrale Energieerzeug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Einsatz des Methans als Treibstof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Nachteil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Hoher Investitionsaufwan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Eventuelle Geruchsbelästig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Großer Flächenbedarf für die „Energiepflanzen“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Eventuelle ökologische Probleme durch gezielten Anbau von „Energiepflanzen“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Rechteck 3"/>
          <p:cNvSpPr/>
          <p:nvPr/>
        </p:nvSpPr>
        <p:spPr>
          <a:xfrm>
            <a:off x="2775960" y="3605040"/>
            <a:ext cx="4528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erteilung des Energiebedarfs Im Hausha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74" name="Inhaltsplatzhalter 3" descr="FNR_Biogasanlagenbestand_2010_orange_72dpi.JPG"/>
          <p:cNvPicPr/>
          <p:nvPr/>
        </p:nvPicPr>
        <p:blipFill>
          <a:blip r:embed="rId1"/>
          <a:stretch/>
        </p:blipFill>
        <p:spPr>
          <a:xfrm>
            <a:off x="682560" y="2065320"/>
            <a:ext cx="8358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Aufbau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682560" y="1851120"/>
            <a:ext cx="8398080" cy="49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1763640"/>
            <a:ext cx="10080720" cy="5796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w Cen MT"/>
              </a:rPr>
              <a:t>Vergütung: nach EE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w Cen MT"/>
              </a:rPr>
              <a:t>Grundvergütung nach Leistung der Anl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w Cen MT"/>
              </a:rPr>
              <a:t>Jährliche Abnahme, um Effizienzsteigerung und Kostensenkung einer Anlage zu erzielen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w Cen MT"/>
              </a:rPr>
              <a:t>NawaRo,Abfälle,Güllebonus:Verwendung besonderer Inputstoff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w Cen MT"/>
              </a:rPr>
              <a:t>Technologiebonus: Einsatz spezieller Verstromungstechni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w Cen MT"/>
              </a:rPr>
              <a:t>       </a:t>
            </a:r>
            <a:r>
              <a:rPr b="0" lang="de-DE" sz="1600" spc="-1" strike="noStrike">
                <a:solidFill>
                  <a:srgbClr val="000000"/>
                </a:solidFill>
                <a:latin typeface="Tw Cen MT"/>
              </a:rPr>
              <a:t>Technologien:Gasturbine, Brennstoffzelle, Organic-Rankine-Anlage,Stirlingmotor,Dampfmotor,Kalina-Cycl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w Cen MT"/>
              </a:rPr>
              <a:t>KWK-Bonus:Beim Einsatz einer Anlage zur Kraft-Wärme-Kopplu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us 7"/>
          <p:cNvSpPr/>
          <p:nvPr/>
        </p:nvSpPr>
        <p:spPr>
          <a:xfrm>
            <a:off x="71280" y="3279600"/>
            <a:ext cx="468360" cy="500400"/>
          </a:xfrm>
          <a:custGeom>
            <a:avLst/>
            <a:gdLst>
              <a:gd name="textAreaLeft" fmla="*/ 61920 w 468360"/>
              <a:gd name="textAreaRight" fmla="*/ 406440 w 468360"/>
              <a:gd name="textAreaTop" fmla="*/ 195120 h 500400"/>
              <a:gd name="textAreaBottom" fmla="*/ 305280 h 500400"/>
            </a:gdLst>
            <a:ahLst/>
            <a:rect l="textAreaLeft" t="textAreaTop" r="textAreaRight" b="textAreaBottom"/>
            <a:pathLst>
              <a:path w="468312" h="500063">
                <a:moveTo>
                  <a:pt x="62075" y="194958"/>
                </a:moveTo>
                <a:lnTo>
                  <a:pt x="179083" y="194958"/>
                </a:lnTo>
                <a:lnTo>
                  <a:pt x="179083" y="66283"/>
                </a:lnTo>
                <a:lnTo>
                  <a:pt x="289229" y="66283"/>
                </a:lnTo>
                <a:lnTo>
                  <a:pt x="289229" y="194958"/>
                </a:lnTo>
                <a:lnTo>
                  <a:pt x="406237" y="194958"/>
                </a:lnTo>
                <a:lnTo>
                  <a:pt x="406237" y="305105"/>
                </a:lnTo>
                <a:lnTo>
                  <a:pt x="289229" y="305105"/>
                </a:lnTo>
                <a:lnTo>
                  <a:pt x="289229" y="433780"/>
                </a:lnTo>
                <a:lnTo>
                  <a:pt x="179083" y="433780"/>
                </a:lnTo>
                <a:lnTo>
                  <a:pt x="179083" y="305105"/>
                </a:lnTo>
                <a:lnTo>
                  <a:pt x="62075" y="305105"/>
                </a:lnTo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39640" y="4351320"/>
          <a:ext cx="9541080" cy="428760"/>
        </p:xfrm>
        <a:graphic>
          <a:graphicData uri="http://schemas.openxmlformats.org/drawingml/2006/table">
            <a:tbl>
              <a:tblPr/>
              <a:tblGrid>
                <a:gridCol w="3179880"/>
                <a:gridCol w="3181320"/>
                <a:gridCol w="31798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1- 4 c/kWh (Güllebonu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2 c/kWh (Pflanzenreste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4 – 7 c/kWh (NawaR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sp>
        <p:nvSpPr>
          <p:cNvPr id="479" name="Plus 11"/>
          <p:cNvSpPr/>
          <p:nvPr/>
        </p:nvSpPr>
        <p:spPr>
          <a:xfrm>
            <a:off x="71280" y="4351320"/>
            <a:ext cx="468360" cy="500040"/>
          </a:xfrm>
          <a:custGeom>
            <a:avLst/>
            <a:gdLst>
              <a:gd name="textAreaLeft" fmla="*/ 61920 w 468360"/>
              <a:gd name="textAreaRight" fmla="*/ 406440 w 468360"/>
              <a:gd name="textAreaTop" fmla="*/ 194760 h 500040"/>
              <a:gd name="textAreaBottom" fmla="*/ 305280 h 500040"/>
            </a:gdLst>
            <a:ahLst/>
            <a:rect l="textAreaLeft" t="textAreaTop" r="textAreaRight" b="textAreaBottom"/>
            <a:pathLst>
              <a:path w="468312" h="500062">
                <a:moveTo>
                  <a:pt x="62075" y="194958"/>
                </a:moveTo>
                <a:lnTo>
                  <a:pt x="179083" y="194958"/>
                </a:lnTo>
                <a:lnTo>
                  <a:pt x="179083" y="66283"/>
                </a:lnTo>
                <a:lnTo>
                  <a:pt x="289229" y="66283"/>
                </a:lnTo>
                <a:lnTo>
                  <a:pt x="289229" y="194958"/>
                </a:lnTo>
                <a:lnTo>
                  <a:pt x="406237" y="194958"/>
                </a:lnTo>
                <a:lnTo>
                  <a:pt x="406237" y="305104"/>
                </a:lnTo>
                <a:lnTo>
                  <a:pt x="289229" y="305104"/>
                </a:lnTo>
                <a:lnTo>
                  <a:pt x="289229" y="433779"/>
                </a:lnTo>
                <a:lnTo>
                  <a:pt x="179083" y="433779"/>
                </a:lnTo>
                <a:lnTo>
                  <a:pt x="179083" y="305104"/>
                </a:lnTo>
                <a:lnTo>
                  <a:pt x="62075" y="305104"/>
                </a:lnTo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539640" y="5208480"/>
          <a:ext cx="9541080" cy="371520"/>
        </p:xfrm>
        <a:graphic>
          <a:graphicData uri="http://schemas.openxmlformats.org/drawingml/2006/table">
            <a:tbl>
              <a:tblPr/>
              <a:tblGrid>
                <a:gridCol w="4770720"/>
                <a:gridCol w="477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1 c/kWh (Anlagen bis 700 m³/Stunde)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2 c/kWh (Anlagen bis 350 m³/Stunde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sp>
        <p:nvSpPr>
          <p:cNvPr id="481" name="Plus 14"/>
          <p:cNvSpPr/>
          <p:nvPr/>
        </p:nvSpPr>
        <p:spPr>
          <a:xfrm>
            <a:off x="71280" y="5780160"/>
            <a:ext cx="468360" cy="500040"/>
          </a:xfrm>
          <a:custGeom>
            <a:avLst/>
            <a:gdLst>
              <a:gd name="textAreaLeft" fmla="*/ 61920 w 468360"/>
              <a:gd name="textAreaRight" fmla="*/ 406440 w 468360"/>
              <a:gd name="textAreaTop" fmla="*/ 194760 h 500040"/>
              <a:gd name="textAreaBottom" fmla="*/ 305280 h 500040"/>
            </a:gdLst>
            <a:ahLst/>
            <a:rect l="textAreaLeft" t="textAreaTop" r="textAreaRight" b="textAreaBottom"/>
            <a:pathLst>
              <a:path w="468312" h="500062">
                <a:moveTo>
                  <a:pt x="62075" y="194958"/>
                </a:moveTo>
                <a:lnTo>
                  <a:pt x="179083" y="194958"/>
                </a:lnTo>
                <a:lnTo>
                  <a:pt x="179083" y="66283"/>
                </a:lnTo>
                <a:lnTo>
                  <a:pt x="289229" y="66283"/>
                </a:lnTo>
                <a:lnTo>
                  <a:pt x="289229" y="194958"/>
                </a:lnTo>
                <a:lnTo>
                  <a:pt x="406237" y="194958"/>
                </a:lnTo>
                <a:lnTo>
                  <a:pt x="406237" y="305104"/>
                </a:lnTo>
                <a:lnTo>
                  <a:pt x="289229" y="305104"/>
                </a:lnTo>
                <a:lnTo>
                  <a:pt x="289229" y="433779"/>
                </a:lnTo>
                <a:lnTo>
                  <a:pt x="179083" y="433779"/>
                </a:lnTo>
                <a:lnTo>
                  <a:pt x="179083" y="305104"/>
                </a:lnTo>
                <a:lnTo>
                  <a:pt x="62075" y="305104"/>
                </a:lnTo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611280" y="6708600"/>
          <a:ext cx="9469440" cy="371520"/>
        </p:xfrm>
        <a:graphic>
          <a:graphicData uri="http://schemas.openxmlformats.org/drawingml/2006/table">
            <a:tbl>
              <a:tblPr/>
              <a:tblGrid>
                <a:gridCol w="9469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                                                           </a:t>
                      </a: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 c/kW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611280" y="2708280"/>
          <a:ext cx="9469440" cy="639720"/>
        </p:xfrm>
        <a:graphic>
          <a:graphicData uri="http://schemas.openxmlformats.org/drawingml/2006/table">
            <a:tbl>
              <a:tblPr/>
              <a:tblGrid>
                <a:gridCol w="3522600"/>
                <a:gridCol w="2948040"/>
                <a:gridCol w="2998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7.71c/kWh (bis 20 MW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9.09c/kWh (bis 500 kW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11.55c/kWh (bis 150 kw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sp>
        <p:nvSpPr>
          <p:cNvPr id="484" name="Rechteck 10"/>
          <p:cNvSpPr/>
          <p:nvPr/>
        </p:nvSpPr>
        <p:spPr>
          <a:xfrm>
            <a:off x="2775960" y="3605040"/>
            <a:ext cx="4528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erteilung des Energiebedarfs Im Hausha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-360" y="1931760"/>
            <a:ext cx="243684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Primärenergie - verbrauch in Deutschland in 2008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7" name="Inhaltsplatzhalter 6" descr=""/>
          <p:cNvPicPr/>
          <p:nvPr/>
        </p:nvPicPr>
        <p:blipFill>
          <a:blip r:embed="rId1"/>
          <a:stretch/>
        </p:blipFill>
        <p:spPr>
          <a:xfrm>
            <a:off x="2603520" y="1932120"/>
            <a:ext cx="7056360" cy="48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-360" y="1931760"/>
            <a:ext cx="243684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Stromerzeugung aus erneuerbaren Energien in Deutschland 2008 in Gigawattstunden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0" name="Inhaltsplatzhalter 6" descr=""/>
          <p:cNvPicPr/>
          <p:nvPr/>
        </p:nvPicPr>
        <p:blipFill>
          <a:blip r:embed="rId1"/>
          <a:stretch/>
        </p:blipFill>
        <p:spPr>
          <a:xfrm>
            <a:off x="2603520" y="1779480"/>
            <a:ext cx="7056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-360" y="1931760"/>
            <a:ext cx="239724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Wärme Erzeugung aus erneuerbaren  Energien in Deutschland 2008  in Gigawattstunden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3" name="Inhaltsplatzhalter 3" descr=""/>
          <p:cNvPicPr/>
          <p:nvPr/>
        </p:nvPicPr>
        <p:blipFill>
          <a:blip r:embed="rId1"/>
          <a:stretch/>
        </p:blipFill>
        <p:spPr>
          <a:xfrm>
            <a:off x="2325600" y="1932120"/>
            <a:ext cx="73342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Quellenverzeichnis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17640" bIns="50400" anchor="t">
            <a:normAutofit/>
          </a:bodyPr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hems-renewables.de/renewable-energies/biogas.html#c763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caussade-saaten.de/Pdf/Caussade%20Biogasinfomappe.pdf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nep-group.com/text/funktion-von-biogas.htm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mifratis.de/biogaszusammensetzung.ph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mifratis.de/biogasentstehung.ph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initiative-co2.de/fachberichte/n-waerme-strom-biogas-02.pdf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biogaskontor.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w Cen MT"/>
              </a:rPr>
              <a:t>http://www.biogas-netzeinspeisung.at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w Cen MT"/>
              </a:rPr>
              <a:t>http://www.naturland.d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w Cen MT"/>
              </a:rPr>
              <a:t>http://www.Bundesumweltministerium.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Verwendbare Stoff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682560" y="1779480"/>
            <a:ext cx="8929800" cy="50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Verwendbare Stoff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931760"/>
            <a:ext cx="168264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Ausbeute Rohbioga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Inhaltsplatzhalter 6" descr=""/>
          <p:cNvPicPr/>
          <p:nvPr/>
        </p:nvPicPr>
        <p:blipFill>
          <a:blip r:embed="rId1"/>
          <a:stretch/>
        </p:blipFill>
        <p:spPr>
          <a:xfrm>
            <a:off x="1754280" y="2208240"/>
            <a:ext cx="7905600" cy="5143320"/>
          </a:xfrm>
          <a:prstGeom prst="rect">
            <a:avLst/>
          </a:prstGeom>
          <a:ln w="0">
            <a:noFill/>
          </a:ln>
        </p:spPr>
      </p:pic>
      <p:sp>
        <p:nvSpPr>
          <p:cNvPr id="375" name="Textfeld 7"/>
          <p:cNvSpPr/>
          <p:nvPr/>
        </p:nvSpPr>
        <p:spPr>
          <a:xfrm>
            <a:off x="1760040" y="1851120"/>
            <a:ext cx="1146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dd8047"/>
                </a:solidFill>
                <a:latin typeface="Arial"/>
              </a:rPr>
              <a:t>in m³/tF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2560" y="1707840"/>
            <a:ext cx="898200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Annahmeberei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er Annahmebereich dient als Zwischenlagerung der Gärsubstrat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2560" y="1779120"/>
            <a:ext cx="898200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Annahmeberei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er Annahmebereich dient als Zwischenlagerung der Gärsubstrat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3240000" y="3556080"/>
            <a:ext cx="5567400" cy="38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82560" y="1763280"/>
            <a:ext cx="898200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2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Hygienisierung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Hier werden die Substrate wie z.B. (tierische Reststoffe)  auf 70 Grad Celsius für eine Stunde erhitzt, damit keine Kontamination sowie seuchenhygienisch bedenkliche Stoffe oder Bakterien in die Biogasanlage gelangen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17:56:59Z</dcterms:created>
  <dc:creator>rene</dc:creator>
  <dc:description/>
  <dc:language>en-US</dc:language>
  <cp:lastModifiedBy>thomas liebing</cp:lastModifiedBy>
  <dcterms:modified xsi:type="dcterms:W3CDTF">2010-04-18T17:19:59Z</dcterms:modified>
  <cp:revision>73</cp:revision>
  <dc:subject/>
  <dc:title>Folie 1</dc:title>
</cp:coreProperties>
</file>